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6477C-965B-4BC2-A5E8-39AEFEE7D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F69B0-A2DE-4614-B371-30276214A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C8CA6-8D79-4BC9-8814-3618862C7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80C1A-5D83-4D8B-A7E8-8A9CB2FFE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C0FAA59-0A77-40A3-B540-B2B1CBF14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36389A-ACA8-40D5-8C2C-DADD13F30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A1DD214-28B3-492E-AE9A-38D8F704E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37E2595-998B-4E2E-B8EB-ADCDFD5E1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29FDA3-6F4C-4828-BA2C-A8D37BB78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6F2A3A-6AC3-49C4-99C8-D7FB13EFD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2628C2-B725-406A-A8DB-EB8BA4F1C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DCF1F-B601-4F63-8313-CDA7233DA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466CBC-3A58-4F94-BCA5-BD7F7F401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82D828-9819-4193-A226-82CE355F2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939B68-41F8-44C4-8558-F33DCEC8D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806D017-80FD-40F1-A463-D3AC6AC1AF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2F550C0-2B57-407B-9BBC-7A99104E3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25CF2-6A8D-41AB-AB28-D973C9DD7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54764-DED2-4BCE-B69B-2A5990D44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B6141-EE02-4491-A186-6FC5A82C0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8AA5F-1D7B-4E4E-88FC-4C47850E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7F592-6AF3-4BF1-8D52-69803FE92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2962-8CE8-4826-962E-78CC1A2D4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71DCB-014E-49B3-B3A4-DC0E980AE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9B56-1602-4C50-BDC2-D22800A3F7CB}"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22C7-2764-4582-92BB-F24493CC93B0}"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714680" y="1125360"/>
            <a:ext cx="608148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4</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قوائم التدفقات النقدية</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228600" y="1066680"/>
            <a:ext cx="8229600" cy="484884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مويل</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الأنشطة التى ينتج عنها تغيرات فى حجم ومكونات حقوق الملكية والإقتراض طويل الأج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إصدار الأسهم أو صكوك الملكية الأخرى وكذا المدفوعات النقدية لملاك المشروع فى إطار إسترداد الأسهم.</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المتعلقة بإصدار صكوك الدائنية والقروض طويلة الأجل  مثل السندات.</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التى يدفعها المستأجر لتخفيض الإلتزامات المتعلقة بعقود التأجير التمويلى.</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سداد توزيعات الارباح</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80880" y="762120"/>
            <a:ext cx="8305920" cy="653256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إستثمار</a:t>
            </a: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أنشطة إقتناء أو إستبعاد الأصول طويلة الأجل والاستثمارات بخلاف ما هو فى حكم النقدية أو المتاجرة. </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أصول ثابتة أو غير ملموسة أو نفقات التصنيع الداخلى لها فضلا عن المقبوضات النقدية من بيع تلك الأصول.</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اسهم وسندات بخلاف المحتفظ بها للمتاجرة وكذا المقبوضات النقدية المتعلقة ببيع تلك الاستثمارات.</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عن القروض الممنوحة لأطراف أخرى (بخلاف البنوك)</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المتعلقة بالعقود الآجلة والعقود المستقبلية أو عقود الأختيارات  ما لم تكن محتفظا بها لأغراض المتاج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5800" y="990720"/>
            <a:ext cx="7924680" cy="6166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معالجة حالات خاصة بقائمة الت</a:t>
            </a:r>
            <a:r>
              <a:rPr b="1" lang="ar-EG" sz="2400" spc="-1" strike="noStrike" u="sng">
                <a:solidFill>
                  <a:srgbClr val="ffff00"/>
                </a:solidFill>
                <a:uFillTx/>
                <a:latin typeface="Arial"/>
                <a:cs typeface="Arial"/>
              </a:rPr>
              <a:t>د</a:t>
            </a:r>
            <a:r>
              <a:rPr b="1" lang="ar-SA" sz="2400" spc="-1" strike="noStrike" u="sng">
                <a:solidFill>
                  <a:srgbClr val="ffff00"/>
                </a:solidFill>
                <a:uFillTx/>
                <a:latin typeface="Arial"/>
                <a:cs typeface="Arial"/>
              </a:rPr>
              <a:t>فقات النق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a:t>
            </a:r>
            <a:r>
              <a:rPr b="1" lang="ar-EG" sz="2400" spc="-1" strike="noStrike" u="sng">
                <a:solidFill>
                  <a:srgbClr val="ffff00"/>
                </a:solidFill>
                <a:uFillTx/>
                <a:latin typeface="Arial"/>
                <a:cs typeface="Arial"/>
              </a:rPr>
              <a:t>ع</a:t>
            </a:r>
            <a:r>
              <a:rPr b="1" lang="ar-SA" sz="2400" spc="-1" strike="noStrike" u="sng">
                <a:solidFill>
                  <a:srgbClr val="ffff00"/>
                </a:solidFill>
                <a:uFillTx/>
                <a:latin typeface="Arial"/>
                <a:cs typeface="Arial"/>
              </a:rPr>
              <a:t>وائد وتوزيعات الأرباح</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وجد إجماع على مكان عرض وتبويب التدفقات النقدية من ال</a:t>
            </a:r>
            <a:r>
              <a:rPr b="1" lang="ar-EG" sz="2400" spc="-1" strike="noStrike">
                <a:solidFill>
                  <a:srgbClr val="ffffff"/>
                </a:solidFill>
                <a:latin typeface="Arial"/>
                <a:cs typeface="Arial"/>
              </a:rPr>
              <a:t>ع</a:t>
            </a:r>
            <a:r>
              <a:rPr b="1" lang="ar-SA" sz="2400" spc="-1" strike="noStrike">
                <a:solidFill>
                  <a:srgbClr val="ffffff"/>
                </a:solidFill>
                <a:latin typeface="Arial"/>
                <a:cs typeface="Arial"/>
              </a:rPr>
              <a:t>وائد المدفوعة وتوزيعات الارباح المحصلة ولهذا فقد حددت المعايير الدولية والمصرية أنه ينبغى على المنشأة ان تفصح عن تلك العناصر بشكل منفصل مع تبويبها بطريقة تتصف بالثبات من فترة لأخرى.</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ضرائب على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ظهر الضرائب المحتسبة عن العام بقائمة التدفق النقدى بإعتبارها معاملة لم يترتب عليها تدفقات نقدية فى حين تظهر الضرائب المسد</a:t>
            </a:r>
            <a:r>
              <a:rPr b="1" lang="ar-EG" sz="2400" spc="-1" strike="noStrike">
                <a:solidFill>
                  <a:srgbClr val="ffffff"/>
                </a:solidFill>
                <a:latin typeface="Arial"/>
                <a:cs typeface="Arial"/>
              </a:rPr>
              <a:t>د</a:t>
            </a:r>
            <a:r>
              <a:rPr b="1" lang="ar-SA" sz="2400" spc="-1" strike="noStrike">
                <a:solidFill>
                  <a:srgbClr val="ffffff"/>
                </a:solidFill>
                <a:latin typeface="Arial"/>
                <a:cs typeface="Arial"/>
              </a:rPr>
              <a:t>ة خلال الفترة عادة ضمن التدفقات النقدية من انشطة التشغي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533520" y="380880"/>
            <a:ext cx="8153280" cy="836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بنود غير العا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اة الإفصاح عن التدفقات النقدية المتعلقة بالبنود غير العادية عن انشطة الإستثمار او التمويل بشكل منفصل لتمكين مستخدمى القوائم المالية من فهم طبيعتها واثرها على التدفقات النقدية الحالية والمستقبل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أستثمار فى شركات تابعة وشركات شقيق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ند المحاسبة عن هذه النوعية من الإستثمارات بإستخدام طريقة حقوق الملكية أو طريقة التكلفة فيتم فقط إثبات التدفقات النقدية بين المنشأة والجهة المستثمر فيها مثل توزيعات الأرباح والقروض.</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دفقات النقدية بالعملة الاجنب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تلك المعاملات بعملة عرض القوائم المالية بإستخدام سعر الصرف السارى فى تاريخ التدفق النقدى وكذلك الحال عند عرض التدفقات النقدية بالشركات التابعة الاجنبية (فى حالة إعداد القوائم المالية المجمعة) وبالتالى لا يسمح بإستخدام سعر الصرف السارى فى تاريخ الميزانية. ويعرض أثر التغير فى سعر الصرف كتسوية لأرصدة النقدية وما فى حكمها فى بداية ونهاية الفترة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457200" y="609480"/>
            <a:ext cx="8381880" cy="6677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عاملات غير النقد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ن بعض المعاملات المتعلقة بكل من أنشطة الاستثمار والتمويل قد لا تتطلب إستخدام النقدية أو ما فى حكمها وبالتالى يتعين إستبعاد مثل تلك المعاملات عند عرض قائمة التدفق النقدى ، بل يتطلب الأمر الإفصاح عن مثل هذه النوعية من المعاملات بالإيضاحات المتممة للقوائم المالية أو فى أى مكان آخر بالقوائم المال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الأصول إما بتحميل الإلتزامات المتعلقة بها مباشرة أو عن طريق التأجير التمويلى. ولا يدخل فى ذلك إقتراض المنشأة اموالا لشراء تلك الأصول حيث يمثل هذا تدفقات نقدية داخلة بأنشطة التمويل وتدفقات نقدية خارجة بأنشطة الأستثمار.</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منشاة عن طريق إصدار أسهم حقوق الملكية.</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حويل الديون الى أسهم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457200"/>
            <a:ext cx="8001000" cy="768348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طرق إعداد قائمة التدفق النقدى</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ختلف عرض التدفقات النقدية فى كل من انشطة الأستثمار والتمويل بين الطرق المختلفة لعرض قائمة التدفقات النقدية بل أن الإختلاف يكون عند عرض التدفقات النقدية من انشطة التشغيل والتى يمكن ان تعرض بالطريقتين التاليتين:</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غير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بموجبها تحديد صافى التدفق النقدى من أنشطة التشغيل عن طريق تسوية صافى أرباح أو خسائر الفترة بآثار المعاملات غير النقدية وأى تأجيل أو إستحقاق لمقبوضات ومدفوعات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تغيرات فى المخزون وحسابات مدينو ودائنو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بنود غير النقدية مثل الإهلاكات والإستهلاكات والمخصصات والضرائب المؤجلة وأرباح وخسائر العملات الأجنبية غير المحققة وارباح الشركات المستثمر فيها غير الموزعة وحقوق الأقلية.</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جميع البنود الأخرى المتعلقة بأنشطة الإستثمار و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533520" y="228600"/>
            <a:ext cx="8381880" cy="6677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تسوية كل عنصر من العناصر المكونة لصافى أرباح اوخسائر الفترة بالمعاملات غير النقدية المتعلقة به</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تحصلات النقدية من العملاء ( تسوية لحساب المبيعات والإيرادات الاخرى بقائمة الدخ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أول المدة + المبيعات والإيرادات الآجلة – الديون المعدومة والمردودات</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آخرالمدة = المتحصلات النقدية من العملاء</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موردين ( تسوية لحساب تكلفة المبيعات والمصروفات الاخرى بقائمة الدخل. </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موردين والمستح</a:t>
            </a:r>
            <a:r>
              <a:rPr b="1" lang="ar-EG" sz="2400" spc="-1" strike="noStrike">
                <a:solidFill>
                  <a:srgbClr val="ffffff"/>
                </a:solidFill>
                <a:latin typeface="Arial"/>
                <a:cs typeface="Arial"/>
              </a:rPr>
              <a:t>ق</a:t>
            </a:r>
            <a:r>
              <a:rPr b="1" lang="ar-SA" sz="2400" spc="-1" strike="noStrike">
                <a:solidFill>
                  <a:srgbClr val="ffffff"/>
                </a:solidFill>
                <a:latin typeface="Arial"/>
                <a:cs typeface="Arial"/>
              </a:rPr>
              <a:t>ات اول المدة + المشتريات والمصروفات الآجلة – المردودات – الموردين والمستحقات آخر المدة  = المدفوعات النقدية ل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r>
              <a:rPr b="1" lang="ar-EG" sz="2800" spc="-1" strike="noStrike">
                <a:solidFill>
                  <a:srgbClr val="ffffff"/>
                </a:solidFill>
                <a:latin typeface="Arial"/>
              </a:rPr>
              <a:t> : مبسط لاعداد قائمة التدفق النقدى: فيما يلى القوائم المالية لشركة شوقى عبر البحار:-</a:t>
            </a:r>
            <a:endParaRPr b="0" lang="en-US" sz="2800" spc="-1" strike="noStrike">
              <a:solidFill>
                <a:srgbClr val="e3e3ff"/>
              </a:solidFill>
              <a:latin typeface="Arial"/>
            </a:endParaRPr>
          </a:p>
        </p:txBody>
      </p:sp>
      <p:graphicFrame>
        <p:nvGraphicFramePr>
          <p:cNvPr id="157" name=""/>
          <p:cNvGraphicFramePr/>
          <p:nvPr/>
        </p:nvGraphicFramePr>
        <p:xfrm>
          <a:off x="380880" y="1600200"/>
          <a:ext cx="8215560" cy="4809960"/>
        </p:xfrm>
        <a:graphic>
          <a:graphicData uri="http://schemas.openxmlformats.org/drawingml/2006/table">
            <a:tbl>
              <a:tblPr/>
              <a:tblGrid>
                <a:gridCol w="711360"/>
                <a:gridCol w="780840"/>
                <a:gridCol w="952560"/>
                <a:gridCol w="811440"/>
                <a:gridCol w="811080"/>
                <a:gridCol w="812880"/>
                <a:gridCol w="811080"/>
                <a:gridCol w="2524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نقدي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مو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ستثما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شغ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تغي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صول ثابتة (التكلف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ستثمارات فى شركات تاب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نقدية بالبنوك</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خز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عمل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أس المال المدفوع</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قروض طويلة الاج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دائن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صافى أرباح العا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60</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59" name=""/>
          <p:cNvGraphicFramePr/>
          <p:nvPr/>
        </p:nvGraphicFramePr>
        <p:xfrm>
          <a:off x="990720" y="1295280"/>
          <a:ext cx="7696080" cy="5283360"/>
        </p:xfrm>
        <a:graphic>
          <a:graphicData uri="http://schemas.openxmlformats.org/drawingml/2006/table">
            <a:tbl>
              <a:tblPr/>
              <a:tblGrid>
                <a:gridCol w="1218960"/>
                <a:gridCol w="1067040"/>
                <a:gridCol w="5410080"/>
              </a:tblGrid>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صافى أرباح العام</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إهلاك وإست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1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ربح التشغيل قبل التغير فى رأس المال العام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المخز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3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الزيادة) فى حسابات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3</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أرصدة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تدفقات النقدية من ا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1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الشركة التابع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5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أصول 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r>
                        <a:rPr b="1" lang="ar-EG" sz="1600" spc="-1" strike="noStrike">
                          <a:solidFill>
                            <a:srgbClr val="ffff00"/>
                          </a:solidFill>
                          <a:latin typeface="Arial"/>
                          <a:ea typeface="Arial"/>
                        </a:rPr>
                        <a:t>60</a:t>
                      </a: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الناتجة من (المستخدمة فى) أ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95480" y="228240"/>
            <a:ext cx="32767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ابع 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61" name=""/>
          <p:cNvGraphicFramePr/>
          <p:nvPr/>
        </p:nvGraphicFramePr>
        <p:xfrm>
          <a:off x="990720" y="1600200"/>
          <a:ext cx="7696080" cy="3251160"/>
        </p:xfrm>
        <a:graphic>
          <a:graphicData uri="http://schemas.openxmlformats.org/drawingml/2006/table">
            <a:tbl>
              <a:tblPr/>
              <a:tblGrid>
                <a:gridCol w="1218960"/>
                <a:gridCol w="1067040"/>
                <a:gridCol w="5410080"/>
              </a:tblGrid>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صدار أسهم رأس الما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قتراض طويل الا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7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نقدية الناتجة من (المستخدمة فى)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زيادة (النقص) فى النقدية وما فى حكمها</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بد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08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5</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نه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456840"/>
            <a:ext cx="22860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e3e3ff"/>
              </a:solidFill>
              <a:latin typeface="Arial"/>
            </a:endParaRPr>
          </a:p>
        </p:txBody>
      </p:sp>
      <p:sp>
        <p:nvSpPr>
          <p:cNvPr id="124" name="PlaceHolder 2"/>
          <p:cNvSpPr>
            <a:spLocks noGrp="1"/>
          </p:cNvSpPr>
          <p:nvPr>
            <p:ph/>
          </p:nvPr>
        </p:nvSpPr>
        <p:spPr>
          <a:xfrm>
            <a:off x="1219320" y="1143000"/>
            <a:ext cx="5029200" cy="175248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همية عرض معلومات التدفق النقدى</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ـــات</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نقدية وما فى حكمها</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الجة حالات خاصة بقائمة التدفق النقدى</a:t>
            </a:r>
            <a:endParaRPr b="0" lang="en-US" sz="1800" spc="-1" strike="noStrike">
              <a:solidFill>
                <a:srgbClr val="ffffff"/>
              </a:solidFill>
              <a:latin typeface="Arial"/>
            </a:endParaRPr>
          </a:p>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1295280" y="2895480"/>
            <a:ext cx="4496040" cy="173988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عوائد وتوزيعات الارباح</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ضرائب على الدخل</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بنود غير العا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استثمار فى شركات تابعة وشركات شقيق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تدفقات النقدية بالعملة الاجنبية</a:t>
            </a:r>
            <a:endParaRPr b="0" lang="en-US" sz="1800" spc="-1" strike="noStrike">
              <a:solidFill>
                <a:srgbClr val="ffffff"/>
              </a:solidFill>
              <a:latin typeface="Times New Roman"/>
            </a:endParaRPr>
          </a:p>
        </p:txBody>
      </p:sp>
      <p:sp>
        <p:nvSpPr>
          <p:cNvPr id="126" name=""/>
          <p:cNvSpPr/>
          <p:nvPr/>
        </p:nvSpPr>
        <p:spPr>
          <a:xfrm>
            <a:off x="1219320" y="4419720"/>
            <a:ext cx="4952880" cy="91692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معاملات غير النق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طرق إعداد قائمة التدفق النقدى</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ثال توضيح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05360" y="1676160"/>
            <a:ext cx="2057400" cy="5331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
        <p:nvSpPr>
          <p:cNvPr id="128" name="PlaceHolder 2"/>
          <p:cNvSpPr>
            <a:spLocks noGrp="1"/>
          </p:cNvSpPr>
          <p:nvPr>
            <p:ph/>
          </p:nvPr>
        </p:nvSpPr>
        <p:spPr>
          <a:xfrm>
            <a:off x="533160" y="2361960"/>
            <a:ext cx="8001000" cy="1447560"/>
          </a:xfrm>
          <a:prstGeom prst="rect">
            <a:avLst/>
          </a:prstGeom>
          <a:noFill/>
          <a:ln w="0">
            <a:noFill/>
          </a:ln>
        </p:spPr>
        <p:txBody>
          <a:bodyPr lIns="90000" rIns="90000" tIns="46800" bIns="46800" anchor="t">
            <a:normAutofit fontScale="79000"/>
          </a:bodyPr>
          <a:p>
            <a:pPr marL="270720" indent="-2707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معلومات عن التغيرات التاريخية فى النقدية وما فى حكمها للمنشأة وذلك عن طريق قائمة التدفق النقدى والتى تبوب التدفقات النقدية خلال الفترة الى تدفقات نقدية من أنشطة:- </a:t>
            </a:r>
            <a:endParaRPr b="0" lang="en-US" sz="2800" spc="-1" strike="noStrike">
              <a:solidFill>
                <a:srgbClr val="ffffff"/>
              </a:solidFill>
              <a:latin typeface="Arial"/>
            </a:endParaRPr>
          </a:p>
        </p:txBody>
      </p:sp>
      <p:sp>
        <p:nvSpPr>
          <p:cNvPr id="129" name=""/>
          <p:cNvSpPr/>
          <p:nvPr/>
        </p:nvSpPr>
        <p:spPr>
          <a:xfrm>
            <a:off x="5867280" y="3733920"/>
            <a:ext cx="22860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شغيل.</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ستثمار</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موي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05360" y="160020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609480" y="2286000"/>
            <a:ext cx="8229600" cy="2209680"/>
          </a:xfrm>
          <a:prstGeom prst="rect">
            <a:avLst/>
          </a:prstGeom>
          <a:noFill/>
          <a:ln w="0">
            <a:noFill/>
          </a:ln>
        </p:spPr>
        <p:txBody>
          <a:bodyPr lIns="90000" rIns="90000" tIns="46800" bIns="46800" anchor="t">
            <a:normAutofit fontScale="83000"/>
          </a:bodyPr>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جميع المنشآت إعداد قائمة التدفق النقدى وفقاً لمتطلبات هذا المعيار.</a:t>
            </a:r>
            <a:endParaRPr b="0" lang="en-US" sz="3200" spc="-1" strike="noStrike">
              <a:solidFill>
                <a:srgbClr val="ffffff"/>
              </a:solidFill>
              <a:latin typeface="Arial"/>
            </a:endParaRPr>
          </a:p>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رض هذه القائمة كجزء متمم للقوائم المالية بكل منشأة ولكل فترة يتم عرض القوائم المالية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04920" y="228600"/>
            <a:ext cx="8839080" cy="6311880"/>
          </a:xfrm>
          <a:prstGeom prst="rect">
            <a:avLst/>
          </a:prstGeom>
          <a:noFill/>
          <a:ln w="0">
            <a:noFill/>
          </a:ln>
        </p:spPr>
        <p:style>
          <a:lnRef idx="0"/>
          <a:fillRef idx="0"/>
          <a:effectRef idx="0"/>
          <a:fontRef idx="minor"/>
        </p:style>
        <p:txBody>
          <a:bodyPr lIns="90000" rIns="90000" tIns="46800" bIns="46800" anchor="t">
            <a:spAutoFit/>
          </a:bodyPr>
          <a:p>
            <a:pPr marL="574560" indent="-347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همية عرض معلومات التدفق النقدى</a:t>
            </a: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وفر قائمة التدفقات النقدية عند إستخدامها مع باقى القوائم المعلومات المالية التى تمكن مستخدمى القوائم المالية من تقييم التغييرات التى حدثت فى صافى أصول المنشاة وفى هيكلها المالى بما فى ذلك درجة توافر السيولة والقدرة على سداد الديون والقدرة على التأثير على المبالغ وتوقيتات التدفقات النقدية وكذا تحديد مقدرة المنشأة على توليد النقدية من الأنشطة المختلفة وإختبار العلاقة بين الربحية وصافى التدفق النقد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دفقات النقدية (الأساس النقدى) هى المبدأ الأساسى لإعداد قائمة التدفقات النقدية ومن ثم فهى تمثل التدفقات النقدية وما فى حكمها المدفوعة أو المحصلة  فى أنشطة المنشاة المختلفة وبالتالى فهى لا تشمل ما يل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3" name=""/>
          <p:cNvSpPr/>
          <p:nvPr/>
        </p:nvSpPr>
        <p:spPr>
          <a:xfrm>
            <a:off x="533520" y="4343400"/>
            <a:ext cx="7924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معاملات غيرالنقدية مثل شراء أصول ثابتة بالأجل أو الحصول عليها من خلال عقود التأجير التمويلى وكذا إقتناء أحد الشركات عن طريق إصدار أسهم أو تحويل الديون الى حقوق الملك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حركة بين بنود النقدية وما فى حكمها مثل تمويل النقدية من حسابات جارية لدى البنوك أو إستخدام النقدية فى شراء بعض أنواع الأستثمارات قصيرة الأجل.</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360" y="380880"/>
            <a:ext cx="251460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تعريفــــــــات</a:t>
            </a:r>
            <a:endParaRPr b="0" lang="en-US" sz="2800" spc="-1" strike="noStrike">
              <a:solidFill>
                <a:srgbClr val="e3e3ff"/>
              </a:solidFill>
              <a:latin typeface="Arial"/>
            </a:endParaRPr>
          </a:p>
        </p:txBody>
      </p:sp>
      <p:sp>
        <p:nvSpPr>
          <p:cNvPr id="135" name="PlaceHolder 2"/>
          <p:cNvSpPr>
            <a:spLocks noGrp="1"/>
          </p:cNvSpPr>
          <p:nvPr>
            <p:ph/>
          </p:nvPr>
        </p:nvSpPr>
        <p:spPr>
          <a:xfrm>
            <a:off x="457200" y="1143000"/>
            <a:ext cx="8229600" cy="4495680"/>
          </a:xfrm>
          <a:prstGeom prst="rect">
            <a:avLst/>
          </a:prstGeom>
          <a:noFill/>
          <a:ln w="0">
            <a:noFill/>
          </a:ln>
        </p:spPr>
        <p:txBody>
          <a:bodyPr lIns="90000" rIns="90000" tIns="46800" bIns="46800" anchor="t">
            <a:normAutofit fontScale="84000"/>
          </a:bodyPr>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قديـــة</a:t>
            </a:r>
            <a:r>
              <a:rPr b="1" lang="ar-EG" sz="2400" spc="-1" strike="noStrike">
                <a:solidFill>
                  <a:srgbClr val="ffffff"/>
                </a:solidFill>
                <a:latin typeface="Arial"/>
              </a:rPr>
              <a:t> : تتضمن النقدية بالصندوق والودائع تحت الطلب.</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فى حكم النقدية</a:t>
            </a:r>
            <a:r>
              <a:rPr b="1" lang="ar-EG" sz="2400" spc="-1" strike="noStrike">
                <a:solidFill>
                  <a:srgbClr val="ffffff"/>
                </a:solidFill>
                <a:latin typeface="Arial"/>
              </a:rPr>
              <a:t> : هى الاستثمارات قصيرة الاجل وعالية السيولة والتى يمكن تحويلها بسهولة إلى مبالغ نقدية محددة، والتى يكون تعرضها لمخاطر التغير فى قيمتها ضئيلاً.</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دفقات النقدية</a:t>
            </a:r>
            <a:r>
              <a:rPr b="1" lang="ar-EG" sz="2400" spc="-1" strike="noStrike">
                <a:solidFill>
                  <a:srgbClr val="ffffff"/>
                </a:solidFill>
                <a:latin typeface="Arial"/>
              </a:rPr>
              <a:t> : هى التدفقات النقدية ومافى حكمها الداخلة والخارج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شغيل</a:t>
            </a:r>
            <a:r>
              <a:rPr b="1" lang="ar-EG" sz="2400" spc="-1" strike="noStrike">
                <a:solidFill>
                  <a:srgbClr val="ffffff"/>
                </a:solidFill>
                <a:latin typeface="Arial"/>
              </a:rPr>
              <a:t> : هى الانشطة الرئيسية المنتجة للايراد للمنشأة، والانشطة الاخرى التى لا تمثل أنشطة إستثمار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استثمار</a:t>
            </a:r>
            <a:r>
              <a:rPr b="1" lang="ar-EG" sz="2400" spc="-1" strike="noStrike">
                <a:solidFill>
                  <a:srgbClr val="ffffff"/>
                </a:solidFill>
                <a:latin typeface="Arial"/>
              </a:rPr>
              <a:t> : هى أنشطة إقتناء وإستبعاد الاصول طويلة الاجل والاستثمارات الاخرى التى لا تدخل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مويل</a:t>
            </a:r>
            <a:r>
              <a:rPr b="1" lang="ar-EG" sz="2400" spc="-1" strike="noStrike">
                <a:solidFill>
                  <a:srgbClr val="ffffff"/>
                </a:solidFill>
                <a:latin typeface="Arial"/>
              </a:rPr>
              <a:t> : هى الانشطة التى ينتج عنها تغييرات فى حجم ومكونات حقوق الملكية والاقتراض بالمنشأ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57200" y="457200"/>
            <a:ext cx="8229600" cy="7629840"/>
          </a:xfrm>
          <a:prstGeom prst="rect">
            <a:avLst/>
          </a:prstGeom>
          <a:noFill/>
          <a:ln w="0">
            <a:noFill/>
          </a:ln>
        </p:spPr>
        <p:style>
          <a:lnRef idx="0"/>
          <a:fillRef idx="0"/>
          <a:effectRef idx="0"/>
          <a:fontRef idx="minor"/>
        </p:style>
        <p:txBody>
          <a:bodyPr lIns="90000" rIns="90000" tIns="46800" bIns="46800" anchor="t">
            <a:spAutoFit/>
          </a:bodyPr>
          <a:p>
            <a:pPr marL="399960" indent="-3999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نقدية وما فى حكمها</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ستبعد أرصدة النقدية وما فى حكمها من عرض حركة التغير فى التدفقات النقدية المتعلقة بأنشطة المنشأة المختلفة وذلك على إعتبار أن التغير فى أرصدة النقدية وما فى حكمها هو ناتج  قائمة التدفق النقد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تمثل أرصدة النقدية وما فى حكمها فيما يل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نقدية فى الصندوق وأرصدة الحسابات الجارية لدى البنوك</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إستثمارات قصيرة الاجل عالية السيولة متمثلة فى الأستثمارات التى يمكن تحويلها بسهولة الى مبالغ نقدية محددة فضلا الى أن إحتمال تعرضها لمخاطر التغير فى قيمتها يعتبر ضئيلا ويحتفظ بها لأغراض مواجهة الألتزامات النقدية قصيرة الاجل (فقط أذون الخزانة إستحقاق ثلاثة شهور أو أقل)</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عت</a:t>
            </a:r>
            <a:r>
              <a:rPr b="1" lang="ar-EG" sz="2400" spc="-1" strike="noStrike">
                <a:solidFill>
                  <a:srgbClr val="ffffff"/>
                </a:solidFill>
                <a:latin typeface="Arial"/>
                <a:cs typeface="Arial"/>
              </a:rPr>
              <a:t>ب</a:t>
            </a:r>
            <a:r>
              <a:rPr b="1" lang="ar-SA" sz="2400" spc="-1" strike="noStrike">
                <a:solidFill>
                  <a:srgbClr val="ffffff"/>
                </a:solidFill>
                <a:latin typeface="Arial"/>
                <a:cs typeface="Arial"/>
              </a:rPr>
              <a:t>ر السحب على المكشوف من البنوك الذى لا يكون ضمن ترتيبات إقتراض من بنود ما هو فى حكم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676520" y="228600"/>
            <a:ext cx="57909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عرض</a:t>
            </a:r>
            <a:r>
              <a:rPr b="1" lang="ar-SA" sz="2400" spc="-1" strike="noStrike" u="sng">
                <a:solidFill>
                  <a:srgbClr val="ffff00"/>
                </a:solidFill>
                <a:uFillTx/>
                <a:latin typeface="Arial"/>
                <a:ea typeface="Arial"/>
              </a:rPr>
              <a:t> التدفقات النقدية من الأنشطة المختلفة للمنشأة</a:t>
            </a:r>
            <a:endParaRPr b="0" lang="en-US" sz="2400" spc="-1" strike="noStrike">
              <a:solidFill>
                <a:srgbClr val="ffffff"/>
              </a:solidFill>
              <a:latin typeface="Times New Roman"/>
            </a:endParaRPr>
          </a:p>
        </p:txBody>
      </p:sp>
      <p:sp>
        <p:nvSpPr>
          <p:cNvPr id="138" name=""/>
          <p:cNvSpPr/>
          <p:nvPr/>
        </p:nvSpPr>
        <p:spPr>
          <a:xfrm>
            <a:off x="7315200" y="1752480"/>
            <a:ext cx="0" cy="1981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52480" y="1828800"/>
            <a:ext cx="0" cy="1905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495680" y="34290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15000" y="914400"/>
            <a:ext cx="2362320" cy="838080"/>
          </a:xfrm>
          <a:prstGeom prst="rect">
            <a:avLst/>
          </a:prstGeom>
          <a:noFill/>
          <a:ln w="5400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صول الثابتة</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ستثمارات طويلة الأجل</a:t>
            </a:r>
            <a:endParaRPr b="0" lang="en-US" sz="1800" spc="-1" strike="noStrike">
              <a:solidFill>
                <a:srgbClr val="ffffff"/>
              </a:solidFill>
              <a:latin typeface="Times New Roman"/>
            </a:endParaRPr>
          </a:p>
        </p:txBody>
      </p:sp>
      <p:sp>
        <p:nvSpPr>
          <p:cNvPr id="142" name=""/>
          <p:cNvSpPr/>
          <p:nvPr/>
        </p:nvSpPr>
        <p:spPr>
          <a:xfrm>
            <a:off x="380880" y="914400"/>
            <a:ext cx="3200400" cy="9144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ذاتى (رأس المال)</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خارجى (قروض طويلة الأجل)</a:t>
            </a:r>
            <a:endParaRPr b="0" lang="en-US" sz="1800" spc="-1" strike="noStrike">
              <a:solidFill>
                <a:srgbClr val="ffffff"/>
              </a:solidFill>
              <a:latin typeface="Times New Roman"/>
            </a:endParaRPr>
          </a:p>
        </p:txBody>
      </p:sp>
      <p:sp>
        <p:nvSpPr>
          <p:cNvPr id="143" name=""/>
          <p:cNvSpPr/>
          <p:nvPr/>
        </p:nvSpPr>
        <p:spPr>
          <a:xfrm>
            <a:off x="2819520" y="2133720"/>
            <a:ext cx="3352680" cy="1295280"/>
          </a:xfrm>
          <a:prstGeom prst="rect">
            <a:avLst/>
          </a:prstGeom>
          <a:noFill/>
          <a:ln w="4428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اصر أصول وإلتزامات دورة</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نشاط العادية (الأصول</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الإلتزامات المتداولة) وصافيها</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مثل رأس المال العامل</a:t>
            </a:r>
            <a:endParaRPr b="0" lang="en-US" sz="2000" spc="-1" strike="noStrike">
              <a:solidFill>
                <a:srgbClr val="ffffff"/>
              </a:solidFill>
              <a:latin typeface="Times New Roman"/>
            </a:endParaRPr>
          </a:p>
        </p:txBody>
      </p:sp>
      <p:sp>
        <p:nvSpPr>
          <p:cNvPr id="144" name=""/>
          <p:cNvSpPr/>
          <p:nvPr/>
        </p:nvSpPr>
        <p:spPr>
          <a:xfrm>
            <a:off x="6313320" y="3809880"/>
            <a:ext cx="192276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إستثمار</a:t>
            </a:r>
            <a:endParaRPr b="0" lang="en-US" sz="2000" spc="-1" strike="noStrike">
              <a:solidFill>
                <a:srgbClr val="ffffff"/>
              </a:solidFill>
              <a:latin typeface="Times New Roman"/>
            </a:endParaRPr>
          </a:p>
        </p:txBody>
      </p:sp>
      <p:sp>
        <p:nvSpPr>
          <p:cNvPr id="145" name=""/>
          <p:cNvSpPr/>
          <p:nvPr/>
        </p:nvSpPr>
        <p:spPr>
          <a:xfrm>
            <a:off x="3624480" y="4038480"/>
            <a:ext cx="189828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ط التشغيل</a:t>
            </a:r>
            <a:endParaRPr b="0" lang="en-US" sz="2000" spc="-1" strike="noStrike">
              <a:solidFill>
                <a:srgbClr val="ffffff"/>
              </a:solidFill>
              <a:latin typeface="Times New Roman"/>
            </a:endParaRPr>
          </a:p>
        </p:txBody>
      </p:sp>
      <p:sp>
        <p:nvSpPr>
          <p:cNvPr id="146" name=""/>
          <p:cNvSpPr/>
          <p:nvPr/>
        </p:nvSpPr>
        <p:spPr>
          <a:xfrm>
            <a:off x="741600" y="3809880"/>
            <a:ext cx="1905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التمويل</a:t>
            </a:r>
            <a:endParaRPr b="0" lang="en-US" sz="2000" spc="-1" strike="noStrike">
              <a:solidFill>
                <a:srgbClr val="ffffff"/>
              </a:solidFill>
              <a:latin typeface="Times New Roman"/>
            </a:endParaRPr>
          </a:p>
        </p:txBody>
      </p:sp>
      <p:sp>
        <p:nvSpPr>
          <p:cNvPr id="147" name=""/>
          <p:cNvSpPr/>
          <p:nvPr/>
        </p:nvSpPr>
        <p:spPr>
          <a:xfrm>
            <a:off x="380880" y="4495680"/>
            <a:ext cx="8229600" cy="232344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عرض التدفقات النقدية من أنشطة التشغيل والاستثمار والتمويل</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رض التدفقات النقدية من أنشطة الاستثمار والتمويل على أساس إجمالى كل من المقبوضات النقدية وإجمالى المدفوعات النقدية.</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ادة عرض التدفقات النقدية من أنشطة التشغيل على أساس صافى التدفق النقدى المدفوع والمحصل لكل عنصر من عناصر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3520" y="457200"/>
            <a:ext cx="8305560" cy="7644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تبويب عناصر التدفقات النقدية على الانشطة المختلف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شغي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نشأ التدفقات النقدية من أنشطة التشغيل عن طريق أنشطة توليد الإيراد الرئيسى والأنشطة الاخرى التى لا تعتبر أنشطة إستثمار او تمويل.</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بيع البضائع أو تقديم الخدمات.</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الأتاوات والعمولات والإيرادات الا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عاملين او بالنيابة عنهم والمقبوضات والمدفوعات النقدية من والى منشآت التأمين عن الأقساط والمطالبات والأشتراكات السنوية والمزايا الأ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أو إستردادت الضرائب ما لم تكن متعلقة بأنشطة تمويل او إستثمار.</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من العقود المحتفظ بها لأغراض المضاربة أو المتاجرة مثل عقود الصرف الآ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44:35Z</dcterms:created>
  <dc:creator>Administrator</dc:creator>
  <dc:description/>
  <dc:language>en-US</dc:language>
  <cp:lastModifiedBy>elmoetaz</cp:lastModifiedBy>
  <dcterms:modified xsi:type="dcterms:W3CDTF">2006-09-17T09:36:22Z</dcterms:modified>
  <cp:revision>44</cp:revision>
  <dc:subject/>
  <dc:title>PowerPoint Presentation</dc:title>
</cp:coreProperties>
</file>